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5F0D-8C7C-4DA8-8422-73405773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D10-D38C-4670-9069-8A7EAA41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2A2-63B2-4C09-BBCB-AE6F982E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A4C-E014-4E01-85A6-57C503B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D33-DBDF-4315-99D9-7F205667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21D-3FDF-48EB-AF71-06054B2E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C58-4225-427D-8733-634A1F7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56C-17CD-4802-8714-E8F896FC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E59-43C5-4BD2-B863-B4A56D43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457-A087-46A7-A071-842E74AD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D39-AC8F-4203-AC17-368D70E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B95-A32B-4EB3-9310-7030181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B17-5D48-45E6-A61D-D1942F2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4F0-3CB3-455A-85A1-8DA525A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B511-3596-4037-AC42-E421716B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rtalbrain.com/hellokitty/index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let.kumamoto-u.ac.jp/eng/Nissan.jpg&amp;imgrefurl=http://www.let.kumamoto-u.ac.jp/eng/BR.htm&amp;h=228&amp;w=342&amp;sz=7&amp;hl=en&amp;start=57&amp;um=1&amp;tbnid=V8J6X6lwDs-LIM:&amp;tbnh=80&amp;tbnw=120&amp;prev=/images%3Fq%3Djapanese%2Bproducts%26start%3D40%26ndsp%3D20%26svnum%3D10%26um%3D1%26hl%3Den%26safe%3Dactive%26rlz%3D1T4SUNA_enUS242US248%26sa%3D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25 &amp; 2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Guided Reading due next block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9" descr="gameq"/>
          <p:cNvPicPr/>
          <p:nvPr/>
        </p:nvPicPr>
        <p:blipFill>
          <a:blip r:embed="rId2"/>
          <a:stretch/>
        </p:blipFill>
        <p:spPr>
          <a:xfrm>
            <a:off x="5715000" y="152280"/>
            <a:ext cx="3255840" cy="2186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7"/>
          <p:cNvSpPr/>
          <p:nvPr/>
        </p:nvSpPr>
        <p:spPr>
          <a:xfrm>
            <a:off x="0" y="1143000"/>
            <a:ext cx="3962520" cy="216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-25 &amp; 26-12  Use pgs. 192-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of which product than any other 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2514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swer: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0" y="2971800"/>
            <a:ext cx="3962520" cy="189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 is a world leader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OR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produ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0" y="3733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swer: 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zzyfz1"/>
          <p:cNvPicPr/>
          <p:nvPr/>
        </p:nvPicPr>
        <p:blipFill>
          <a:blip r:embed="rId3"/>
          <a:stretch/>
        </p:blipFill>
        <p:spPr>
          <a:xfrm>
            <a:off x="5715000" y="4670280"/>
            <a:ext cx="3021120" cy="218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nissanz"/>
          <p:cNvPicPr/>
          <p:nvPr/>
        </p:nvPicPr>
        <p:blipFill>
          <a:blip r:embed="rId4"/>
          <a:stretch/>
        </p:blipFill>
        <p:spPr>
          <a:xfrm>
            <a:off x="4343400" y="2384280"/>
            <a:ext cx="3540240" cy="2243160"/>
          </a:xfrm>
          <a:prstGeom prst="rect">
            <a:avLst/>
          </a:prstGeom>
          <a:ln w="0">
            <a:noFill/>
          </a:ln>
        </p:spPr>
      </p:pic>
      <p:sp>
        <p:nvSpPr>
          <p:cNvPr id="56" name="WordArt 36"/>
          <p:cNvSpPr txBox="1"/>
          <p:nvPr/>
        </p:nvSpPr>
        <p:spPr>
          <a:xfrm rot="20254200">
            <a:off x="2982960" y="2068560"/>
            <a:ext cx="298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806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panese Produc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806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7162920" y="525780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0" y="4495680"/>
            <a:ext cx="3962520" cy="271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Activity:  Talk with your group and List on paper as many products (Brand name only!) that are made in  Japan….Yes, you can use the intern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Mazda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 Gi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eamcast S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k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zen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ji Photo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wa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bota (tr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z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nt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ello Kitty picture Hello Kitty image Hello Kitty picture gallery download free Hello Kitty wallpaper Hello Kitty screensavers games">
            <a:hlinkClick r:id="rId2"/>
          </p:cNvPr>
          <p:cNvPicPr/>
          <p:nvPr/>
        </p:nvPicPr>
        <p:blipFill>
          <a:blip r:embed="rId3"/>
          <a:srcRect l="0" t="-807" r="73589" b="0"/>
          <a:stretch/>
        </p:blipFill>
        <p:spPr>
          <a:xfrm>
            <a:off x="914400" y="304920"/>
            <a:ext cx="114300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48320" y="0"/>
            <a:ext cx="4267080" cy="78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K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m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zu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ko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lo Ki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VC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lot 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ga (Anime)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Niss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380880"/>
            <a:ext cx="1676160" cy="111780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Movie 5"/>
          <p:cNvSpPr/>
          <p:nvPr/>
        </p:nvSpPr>
        <p:spPr>
          <a:xfrm>
            <a:off x="7848720" y="38098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653"/>
                </a:moveTo>
                <a:lnTo>
                  <a:pt x="4707" y="8653"/>
                </a:lnTo>
                <a:lnTo>
                  <a:pt x="5090" y="9018"/>
                </a:lnTo>
                <a:lnTo>
                  <a:pt x="14299" y="9018"/>
                </a:lnTo>
                <a:lnTo>
                  <a:pt x="14856" y="9575"/>
                </a:lnTo>
                <a:lnTo>
                  <a:pt x="14856" y="10124"/>
                </a:lnTo>
                <a:lnTo>
                  <a:pt x="16701" y="10124"/>
                </a:lnTo>
                <a:lnTo>
                  <a:pt x="17067" y="9575"/>
                </a:lnTo>
                <a:lnTo>
                  <a:pt x="17806" y="9575"/>
                </a:lnTo>
                <a:lnTo>
                  <a:pt x="17806" y="14728"/>
                </a:lnTo>
                <a:lnTo>
                  <a:pt x="17067" y="14728"/>
                </a:lnTo>
                <a:lnTo>
                  <a:pt x="16701" y="14180"/>
                </a:lnTo>
                <a:lnTo>
                  <a:pt x="14856" y="14180"/>
                </a:lnTo>
                <a:lnTo>
                  <a:pt x="14856" y="15459"/>
                </a:lnTo>
                <a:lnTo>
                  <a:pt x="5273" y="15459"/>
                </a:lnTo>
                <a:lnTo>
                  <a:pt x="5273" y="11229"/>
                </a:lnTo>
                <a:lnTo>
                  <a:pt x="5090" y="11229"/>
                </a:lnTo>
                <a:lnTo>
                  <a:pt x="4707" y="11595"/>
                </a:lnTo>
                <a:lnTo>
                  <a:pt x="3794" y="1159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629400" y="46483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view Japanese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4920" y="2286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Japanese hous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raditional Japanese house, you don't sit on chairs or sleep on beds. You sit and sleep on the floor using cushion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dding. The way the Japanese room is designed makes this possible; it evolved over time as an extension of the way people live and as an expression of the native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oday, when Western-style rooms with chairs and beds are common, most houses have at least one room in the traditional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gest feature of the Japanese room is that the floor is mad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t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raw mats). The mats are rectangular and measure around 1.7 square meters (about 18 square feet); the numbe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t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s is usually the way the size of rooms is mea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Western-style houses became common, the Japanese room had no windows. It was partitioned with sliding, paper-screen doors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s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uring the daytime the room serves as a living and dining room, and at night, it can be used as a bedroom by laying out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olded up in the morning and stored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shi-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lo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apanese-style room"/>
          <p:cNvPicPr/>
          <p:nvPr/>
        </p:nvPicPr>
        <p:blipFill>
          <a:blip r:embed="rId2"/>
          <a:stretch/>
        </p:blipFill>
        <p:spPr>
          <a:xfrm>
            <a:off x="2971800" y="4648320"/>
            <a:ext cx="4114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great-wave"/>
          <p:cNvPicPr/>
          <p:nvPr/>
        </p:nvPicPr>
        <p:blipFill>
          <a:blip r:embed="rId2"/>
          <a:stretch/>
        </p:blipFill>
        <p:spPr>
          <a:xfrm>
            <a:off x="762120" y="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" y="4648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sushika Hokusai (September 23, 1760-April 18, 1849) was a Japanese painter and printmaker from the Edo Period. He is most famous for his series of prints called "Thirty-Six Views of Mount Fuji" (produced during the period 1826-1833). One of these views, "The Great Wave Off Kanagawa," has become a modern-day icon. Hokusai's seemingly timeless images are almost 200 years 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10552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kusai and online pa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1:34:44Z</dcterms:created>
  <dc:creator>Selena Ramsey</dc:creator>
  <dc:description/>
  <dc:language>en-US</dc:language>
  <cp:lastModifiedBy>poweruser</cp:lastModifiedBy>
  <dcterms:modified xsi:type="dcterms:W3CDTF">2012-01-27T13:41:28Z</dcterms:modified>
  <cp:revision>99</cp:revision>
  <dc:subject/>
  <dc:title>Slide 1</dc:title>
</cp:coreProperties>
</file>